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9B2F-F919-4114-BAA7-AF5426AE5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624852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80720" y="3251520"/>
            <a:ext cx="624852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8A0-88FB-4169-A0E9-49E12D89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82920" y="205740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80720" y="325152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82920" y="325152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084-5A3D-4CB6-B914-849F5A9B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201168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93200" y="2057400"/>
            <a:ext cx="201168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06040" y="2057400"/>
            <a:ext cx="201168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80720" y="3251520"/>
            <a:ext cx="201168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93200" y="3251520"/>
            <a:ext cx="201168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06040" y="3251520"/>
            <a:ext cx="201168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ECE-875A-40B7-B0B5-07963D98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80720" y="205740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F42-AC0F-42A9-A4D6-7FA23C54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6F4-29B2-4960-B899-AD283D98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3049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2920" y="2057400"/>
            <a:ext cx="3049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FDF-018C-498F-A7CC-675E29737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D08A-21FF-4900-A777-E6CB6EF9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240" y="151920"/>
            <a:ext cx="71629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9349-F28E-4B81-A1B5-68B43178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82920" y="2057400"/>
            <a:ext cx="3049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80720" y="325152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6DC-1753-44F7-9D9D-49CEB921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3049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82920" y="205740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82920" y="325152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D64F-6808-4052-B4D6-326E88C0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80720" y="205740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82920" y="2057400"/>
            <a:ext cx="304920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80720" y="3251520"/>
            <a:ext cx="6248520" cy="10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016-0CBF-4BB5-8194-5B64157B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20000"/>
          </a:blip>
          <a:srcRect l="4002" t="433" r="1406" b="1154"/>
          <a:stretch/>
        </p:blipFill>
        <p:spPr>
          <a:xfrm>
            <a:off x="-3240" y="-98280"/>
            <a:ext cx="9144000" cy="6953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80720" y="2057400"/>
            <a:ext cx="6248520" cy="2286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01040" indent="-154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617040" indent="-123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864000" indent="-123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110960" indent="-123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110960" indent="-123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110960" indent="-123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32448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0F3A-412D-465F-83DC-D137B55248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61960" y="632448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29240" y="632448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D025-B92A-4BE4-B4EC-8FE3B81D4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rcRect l="8818" t="23779" r="0" b="22768"/>
          <a:stretch/>
        </p:blipFill>
        <p:spPr>
          <a:xfrm>
            <a:off x="7569360" y="-76320"/>
            <a:ext cx="1574640" cy="68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391520" cy="144756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st of Winston Cones with Prototype Electronic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285640" y="2133720"/>
            <a:ext cx="4724280" cy="1218960"/>
          </a:xfrm>
          <a:prstGeom prst="rect">
            <a:avLst/>
          </a:prstGeom>
          <a:solidFill>
            <a:srgbClr val="fcc79d">
              <a:alpha val="47000"/>
            </a:srgbClr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est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sitive / Negative C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utl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7920" y="3733920"/>
            <a:ext cx="33613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f Roe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sa Sabrina Stark Schneebe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an-Pierre Stuc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st Setu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752480" y="1981080"/>
            <a:ext cx="6919200" cy="3429000"/>
            <a:chOff x="1752480" y="1981080"/>
            <a:chExt cx="6919200" cy="3429000"/>
          </a:xfrm>
        </p:grpSpPr>
        <p:sp>
          <p:nvSpPr>
            <p:cNvPr id="48" name=""/>
            <p:cNvSpPr/>
            <p:nvPr/>
          </p:nvSpPr>
          <p:spPr>
            <a:xfrm>
              <a:off x="1752480" y="5257800"/>
              <a:ext cx="5029200" cy="152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34880" y="3933720"/>
              <a:ext cx="34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rinted circuit board PAG-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981080"/>
              <a:ext cx="6385680" cy="3276720"/>
              <a:chOff x="2286000" y="1981080"/>
              <a:chExt cx="6385680" cy="327672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3657600"/>
                <a:ext cx="1447920" cy="1371600"/>
              </a:xfrm>
              <a:custGeom>
                <a:avLst/>
                <a:gdLst>
                  <a:gd name="textAreaLeft" fmla="*/ 0 w 1447920"/>
                  <a:gd name="textAreaRight" fmla="*/ 1448280 w 1447920"/>
                  <a:gd name="textAreaTop" fmla="*/ 0 h 1371600"/>
                  <a:gd name="textAreaBottom" fmla="*/ 1371960 h 137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018" y="11750"/>
                    </a:moveTo>
                    <a:arcTo wR="-9828" hR="-9828" stAng="10467179" swAng="-11320459"/>
                    <a:lnTo>
                      <a:pt x="331" y="13453"/>
                    </a:lnTo>
                    <a:arcTo wR="10800" hR="10800" stAng="9946720" swAng="11320459"/>
                    <a:lnTo>
                      <a:pt x="24237" y="9495"/>
                    </a:lnTo>
                    <a:lnTo>
                      <a:pt x="21374" y="12974"/>
                    </a:lnTo>
                    <a:lnTo>
                      <a:pt x="17895" y="10111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16200000">
                <a:off x="2514240" y="4419360"/>
                <a:ext cx="990720" cy="685800"/>
              </a:xfrm>
              <a:prstGeom prst="flowChartDelay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95480" y="1981080"/>
                <a:ext cx="228600" cy="27432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971800" y="4572000"/>
                <a:ext cx="114480" cy="112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895480" y="1981080"/>
                <a:ext cx="228600" cy="228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798640" y="4632480"/>
                <a:ext cx="457200" cy="625320"/>
              </a:xfrm>
              <a:custGeom>
                <a:avLst/>
                <a:gdLst>
                  <a:gd name="textAreaLeft" fmla="*/ 100440 w 457200"/>
                  <a:gd name="textAreaRight" fmla="*/ 356760 w 457200"/>
                  <a:gd name="textAreaTop" fmla="*/ 137520 h 625320"/>
                  <a:gd name="textAreaBottom" fmla="*/ 487800 h 625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971800" y="1981080"/>
                <a:ext cx="76320" cy="228600"/>
              </a:xfrm>
              <a:prstGeom prst="rect">
                <a:avLst/>
              </a:prstGeom>
              <a:solidFill>
                <a:srgbClr val="0099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693240" y="2971800"/>
                <a:ext cx="4978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inston cones: plexiglass or reflecting foil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9" name=""/>
              <p:cNvCxnSpPr>
                <a:stCxn id="56" idx="0"/>
                <a:endCxn id="58" idx="1"/>
              </p:cNvCxnSpPr>
              <p:nvPr/>
            </p:nvCxnSpPr>
            <p:spPr>
              <a:xfrm flipV="1">
                <a:off x="3198960" y="3169800"/>
                <a:ext cx="498960" cy="177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0" name=""/>
              <p:cNvSpPr/>
              <p:nvPr/>
            </p:nvSpPr>
            <p:spPr>
              <a:xfrm>
                <a:off x="4402800" y="2076480"/>
                <a:ext cx="385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ED: pulse of 20 ns, 1kHz, 4mA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1" name=""/>
              <p:cNvCxnSpPr>
                <a:stCxn id="55" idx="3"/>
                <a:endCxn id="60" idx="1"/>
              </p:cNvCxnSpPr>
              <p:nvPr/>
            </p:nvCxnSpPr>
            <p:spPr>
              <a:xfrm>
                <a:off x="3123720" y="2095560"/>
                <a:ext cx="1280520" cy="162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2" name=""/>
              <p:cNvCxnSpPr/>
              <p:nvPr/>
            </p:nvCxnSpPr>
            <p:spPr>
              <a:xfrm flipV="1">
                <a:off x="4419360" y="4114080"/>
                <a:ext cx="213480" cy="1143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BA0E-1A0A-4E84-818C-DD03161301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3F1ED-2BB0-42B0-B373-A34EBE5EB0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ositive / Negative Co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0720" y="1676160"/>
            <a:ext cx="6248520" cy="990360"/>
          </a:xfrm>
          <a:prstGeom prst="rect">
            <a:avLst/>
          </a:prstGeom>
          <a:solidFill>
            <a:srgbClr val="fcc79d">
              <a:alpha val="41000"/>
            </a:srgbClr>
          </a:solidFill>
          <a:ln w="9360">
            <a:solidFill>
              <a:srgbClr val="333399">
                <a:alpha val="99000"/>
              </a:srgbClr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ones: Plexig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ones: 98% reflective f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2840" y="566424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9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15240" y="454176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56240" y="27432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de 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0280" y="312408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op 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16640" y="3657600"/>
            <a:ext cx="1280880" cy="926280"/>
          </a:xfrm>
          <a:prstGeom prst="rect">
            <a:avLst/>
          </a:prstGeom>
          <a:solidFill>
            <a:srgbClr val="fde8c4"/>
          </a:solidFill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~7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~13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94320" y="4876920"/>
            <a:ext cx="1280880" cy="926280"/>
          </a:xfrm>
          <a:prstGeom prst="rect">
            <a:avLst/>
          </a:prstGeom>
          <a:solidFill>
            <a:srgbClr val="fde8c4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~8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~19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57720" y="449568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Incoming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673440"/>
            <a:ext cx="2919240" cy="286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ertain amount of the incoming light hits the APD directly, unt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ached this amount decreases, at angles bigger tha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 incoming light will be reflected at least o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18000" y="35053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2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03400" y="3638520"/>
            <a:ext cx="1452600" cy="2533680"/>
          </a:xfrm>
          <a:custGeom>
            <a:avLst/>
            <a:gdLst>
              <a:gd name="textAreaLeft" fmla="*/ 319320 w 1452600"/>
              <a:gd name="textAreaRight" fmla="*/ 1133280 w 1452600"/>
              <a:gd name="textAreaTop" fmla="*/ 556920 h 2533680"/>
              <a:gd name="textAreaBottom" fmla="*/ 1976760 h 253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768320" y="3708360"/>
            <a:ext cx="11160" cy="2347920"/>
            <a:chOff x="1768320" y="3708360"/>
            <a:chExt cx="11160" cy="2347920"/>
          </a:xfrm>
        </p:grpSpPr>
        <p:sp>
          <p:nvSpPr>
            <p:cNvPr id="76" name=""/>
            <p:cNvSpPr/>
            <p:nvPr/>
          </p:nvSpPr>
          <p:spPr>
            <a:xfrm flipV="1">
              <a:off x="1768320" y="3708360"/>
              <a:ext cx="1116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68320" y="5021280"/>
              <a:ext cx="0" cy="10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 flipH="1">
            <a:off x="2398320" y="3638520"/>
            <a:ext cx="1057320" cy="2533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47200" y="4502160"/>
            <a:ext cx="4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398680" y="3638520"/>
            <a:ext cx="0" cy="253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38440" y="4559400"/>
            <a:ext cx="1320480" cy="231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0960" y="4876920"/>
            <a:ext cx="4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083040" y="3638160"/>
            <a:ext cx="7596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6880" y="5029200"/>
            <a:ext cx="45648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2743200"/>
            <a:ext cx="440676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angle under which reflective behavior cha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684600" y="3809880"/>
            <a:ext cx="685800" cy="685800"/>
            <a:chOff x="3684600" y="3809880"/>
            <a:chExt cx="685800" cy="685800"/>
          </a:xfrm>
        </p:grpSpPr>
        <p:sp>
          <p:nvSpPr>
            <p:cNvPr id="87" name=""/>
            <p:cNvSpPr/>
            <p:nvPr/>
          </p:nvSpPr>
          <p:spPr>
            <a:xfrm>
              <a:off x="3684600" y="38098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30760" y="39625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60920" y="40384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703680" y="5048280"/>
            <a:ext cx="685800" cy="685800"/>
            <a:chOff x="3703680" y="5048280"/>
            <a:chExt cx="685800" cy="685800"/>
          </a:xfrm>
        </p:grpSpPr>
        <p:sp>
          <p:nvSpPr>
            <p:cNvPr id="91" name=""/>
            <p:cNvSpPr/>
            <p:nvPr/>
          </p:nvSpPr>
          <p:spPr>
            <a:xfrm>
              <a:off x="3703680" y="50482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65680" y="520056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9042800">
              <a:off x="3760920" y="523836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1363800">
            <a:off x="2514240" y="3200040"/>
            <a:ext cx="533520" cy="2286000"/>
          </a:xfrm>
          <a:prstGeom prst="downArrow">
            <a:avLst>
              <a:gd name="adj1" fmla="val 50000"/>
              <a:gd name="adj2" fmla="val 107119"/>
            </a:avLst>
          </a:prstGeom>
          <a:solidFill>
            <a:srgbClr val="0099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13600">
            <a:off x="2819520" y="3123720"/>
            <a:ext cx="533160" cy="2286000"/>
          </a:xfrm>
          <a:prstGeom prst="downArrow">
            <a:avLst>
              <a:gd name="adj1" fmla="val 50000"/>
              <a:gd name="adj2" fmla="val 107191"/>
            </a:avLst>
          </a:prstGeom>
          <a:solidFill>
            <a:srgbClr val="009999">
              <a:alpha val="6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9331400">
            <a:off x="2437920" y="540972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009999">
              <a:alpha val="4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6B0-E92F-4AAE-A9B4-4DFFC9B4BD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6C6CD-E54A-4856-AFF2-D00AF9D21E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gular Acceptance of Positive Co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57240" y="1600200"/>
            <a:ext cx="685800" cy="685800"/>
            <a:chOff x="1857240" y="1600200"/>
            <a:chExt cx="685800" cy="685800"/>
          </a:xfrm>
        </p:grpSpPr>
        <p:sp>
          <p:nvSpPr>
            <p:cNvPr id="99" name=""/>
            <p:cNvSpPr/>
            <p:nvPr/>
          </p:nvSpPr>
          <p:spPr>
            <a:xfrm>
              <a:off x="1857240" y="160020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33560" y="182880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400800" y="1562040"/>
            <a:ext cx="685800" cy="685800"/>
            <a:chOff x="6400800" y="1562040"/>
            <a:chExt cx="685800" cy="685800"/>
          </a:xfrm>
        </p:grpSpPr>
        <p:sp>
          <p:nvSpPr>
            <p:cNvPr id="102" name=""/>
            <p:cNvSpPr/>
            <p:nvPr/>
          </p:nvSpPr>
          <p:spPr>
            <a:xfrm>
              <a:off x="6400800" y="156204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9042800">
              <a:off x="6458040" y="17524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82440" y="5807160"/>
            <a:ext cx="8907480" cy="9262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error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°; Y-error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5% for signals &gt; 50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0% for signals &lt; 50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3733920"/>
            <a:ext cx="304560" cy="53316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9999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0520" y="2695680"/>
          <a:ext cx="4627800" cy="29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2695680"/>
                    <a:ext cx="4627800" cy="296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4876920" y="2743200"/>
          <a:ext cx="4146480" cy="2881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2743200"/>
                    <a:ext cx="4146480" cy="2881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5EF-C0BB-4116-93B3-2E104A05F8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A2D075-B84E-4B61-955B-BCCC4849EB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gular Acceptance of Negative Co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04920" y="3238560"/>
            <a:ext cx="4114800" cy="2738520"/>
            <a:chOff x="304920" y="3238560"/>
            <a:chExt cx="4114800" cy="2738520"/>
          </a:xfrm>
        </p:grpSpPr>
        <p:graphicFrame>
          <p:nvGraphicFramePr>
            <p:cNvPr id="112" name=""/>
            <p:cNvGraphicFramePr/>
            <p:nvPr/>
          </p:nvGraphicFramePr>
          <p:xfrm>
            <a:off x="304920" y="3238560"/>
            <a:ext cx="4114800" cy="2738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3238560"/>
                      <a:ext cx="4114800" cy="2738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14" name=""/>
            <p:cNvSpPr/>
            <p:nvPr/>
          </p:nvSpPr>
          <p:spPr>
            <a:xfrm>
              <a:off x="2479320" y="5568840"/>
              <a:ext cx="193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º inclined to c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876920" y="3174840"/>
            <a:ext cx="4114800" cy="2768760"/>
            <a:chOff x="4876920" y="3174840"/>
            <a:chExt cx="4114800" cy="2768760"/>
          </a:xfrm>
        </p:grpSpPr>
        <p:graphicFrame>
          <p:nvGraphicFramePr>
            <p:cNvPr id="116" name=""/>
            <p:cNvGraphicFramePr/>
            <p:nvPr/>
          </p:nvGraphicFramePr>
          <p:xfrm>
            <a:off x="4876920" y="3174840"/>
            <a:ext cx="4114800" cy="2768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3174840"/>
                      <a:ext cx="4114800" cy="276876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118" name=""/>
            <p:cNvSpPr/>
            <p:nvPr/>
          </p:nvSpPr>
          <p:spPr>
            <a:xfrm>
              <a:off x="6938280" y="5581440"/>
              <a:ext cx="205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5º inclined to con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534000" y="2400480"/>
            <a:ext cx="685800" cy="685800"/>
            <a:chOff x="6534000" y="2400480"/>
            <a:chExt cx="685800" cy="685800"/>
          </a:xfrm>
        </p:grpSpPr>
        <p:sp>
          <p:nvSpPr>
            <p:cNvPr id="120" name=""/>
            <p:cNvSpPr/>
            <p:nvPr/>
          </p:nvSpPr>
          <p:spPr>
            <a:xfrm>
              <a:off x="6534000" y="24004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042800">
              <a:off x="6591240" y="259092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009880" y="2438280"/>
            <a:ext cx="685800" cy="685800"/>
            <a:chOff x="2009880" y="2438280"/>
            <a:chExt cx="685800" cy="685800"/>
          </a:xfrm>
        </p:grpSpPr>
        <p:sp>
          <p:nvSpPr>
            <p:cNvPr id="123" name=""/>
            <p:cNvSpPr/>
            <p:nvPr/>
          </p:nvSpPr>
          <p:spPr>
            <a:xfrm>
              <a:off x="2009880" y="24382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86200" y="26668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61B-F311-41B8-B4A7-606EC290465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12862-D797-4746-93B3-88BF57014A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parison pos./neg. con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240" y="2762280"/>
          <a:ext cx="4343400" cy="2309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240" y="2762280"/>
                    <a:ext cx="4343400" cy="230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44360" y="2762280"/>
          <a:ext cx="4268880" cy="22701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360" y="2762280"/>
                    <a:ext cx="4268880" cy="22701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130" name=""/>
          <p:cNvGrpSpPr/>
          <p:nvPr/>
        </p:nvGrpSpPr>
        <p:grpSpPr>
          <a:xfrm>
            <a:off x="6415200" y="1905120"/>
            <a:ext cx="685800" cy="685800"/>
            <a:chOff x="6415200" y="1905120"/>
            <a:chExt cx="685800" cy="685800"/>
          </a:xfrm>
        </p:grpSpPr>
        <p:sp>
          <p:nvSpPr>
            <p:cNvPr id="131" name=""/>
            <p:cNvSpPr/>
            <p:nvPr/>
          </p:nvSpPr>
          <p:spPr>
            <a:xfrm>
              <a:off x="6415200" y="190512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9042800">
              <a:off x="6472440" y="209556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890720" y="1943280"/>
            <a:ext cx="685800" cy="685800"/>
            <a:chOff x="1890720" y="1943280"/>
            <a:chExt cx="685800" cy="685800"/>
          </a:xfrm>
        </p:grpSpPr>
        <p:sp>
          <p:nvSpPr>
            <p:cNvPr id="134" name=""/>
            <p:cNvSpPr/>
            <p:nvPr/>
          </p:nvSpPr>
          <p:spPr>
            <a:xfrm>
              <a:off x="1890720" y="19432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7040" y="21718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82480" y="5257800"/>
            <a:ext cx="7723440" cy="128304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gative cones are more sensitive at small angles whereas the positive cones show a higher performance at big angles. This behavior is independent from the angle of incoming l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EAAE-C442-4A2E-B580-B5959594254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FE90A-8670-49EE-8591-F87FF27025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716292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oo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80720" y="2057040"/>
            <a:ext cx="6629400" cy="3352680"/>
          </a:xfrm>
          <a:prstGeom prst="rect">
            <a:avLst/>
          </a:prstGeom>
          <a:solidFill>
            <a:srgbClr val="fde8c4"/>
          </a:solidFill>
          <a:ln w="936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index of total reflection of plexig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NSB -&gt; DC 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 to noise versu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background from muons in positive c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of new light pulse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E53A-A67A-4487-A97D-98193969CB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C5F50-A2AE-453B-ABF8-2588774700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769608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nfirmation Measurement: Angular Acceptance of Positive Cones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LED more distant, without aperture)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857240" y="2438280"/>
            <a:ext cx="685800" cy="685800"/>
            <a:chOff x="1857240" y="2438280"/>
            <a:chExt cx="685800" cy="685800"/>
          </a:xfrm>
        </p:grpSpPr>
        <p:sp>
          <p:nvSpPr>
            <p:cNvPr id="141" name=""/>
            <p:cNvSpPr/>
            <p:nvPr/>
          </p:nvSpPr>
          <p:spPr>
            <a:xfrm>
              <a:off x="1857240" y="24382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33560" y="266688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400800" y="2400480"/>
            <a:ext cx="685800" cy="685800"/>
            <a:chOff x="6400800" y="2400480"/>
            <a:chExt cx="685800" cy="685800"/>
          </a:xfrm>
        </p:grpSpPr>
        <p:sp>
          <p:nvSpPr>
            <p:cNvPr id="144" name=""/>
            <p:cNvSpPr/>
            <p:nvPr/>
          </p:nvSpPr>
          <p:spPr>
            <a:xfrm>
              <a:off x="6400800" y="2400480"/>
              <a:ext cx="68580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9042800">
              <a:off x="6458040" y="2590920"/>
              <a:ext cx="609480" cy="228600"/>
            </a:xfrm>
            <a:prstGeom prst="leftArrow">
              <a:avLst>
                <a:gd name="adj1" fmla="val 50000"/>
                <a:gd name="adj2" fmla="val 66654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447920" y="3733920"/>
            <a:ext cx="304560" cy="53316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9999">
                <a:alpha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3352680"/>
          <a:ext cx="4191120" cy="274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52680"/>
                    <a:ext cx="4191120" cy="2743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495680" y="3330720"/>
          <a:ext cx="4462560" cy="2732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330720"/>
                    <a:ext cx="4462560" cy="2732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lf Roeser, Luisa Sabrina Stark Schneebeli, Jean-Pierre Stuck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599F-096D-4D85-A4DD-53499ABEF00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DA6E56-1F9F-4015-B1AF-83278F3D69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1T00:04:12Z</dcterms:created>
  <dc:creator>Sabrina  Stark</dc:creator>
  <dc:description/>
  <dc:language>en-US</dc:language>
  <cp:lastModifiedBy>Thomas Krähenbühl</cp:lastModifiedBy>
  <dcterms:modified xsi:type="dcterms:W3CDTF">2009-02-24T12:55:22Z</dcterms:modified>
  <cp:revision>54</cp:revision>
  <dc:subject/>
  <dc:title>Test of GAPDs, Electronics and Winston Cones</dc:title>
</cp:coreProperties>
</file>